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5276-95E3-4794-B9D6-14EE0AAB5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6A34-F3DB-451B-8B1C-E93F3F34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422C-53B0-4BF6-B3ED-B95032D4E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39C7-FB2D-4FC0-B8AC-86D08DD4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7FC0-350A-4877-B254-73B1A34C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13E0-9A7E-4C6D-A02F-97C5A531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64B4-68EF-42B4-85AB-8BE5BACA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37D0-571D-4D8A-B53A-60360635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7C8E-2DA4-4D83-A377-FA8DF273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8310-CA09-4CAB-8A38-9FFE566D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CE71-2D59-4F6F-80A8-818F47AD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41BF-F2BB-49C6-8C58-422456D2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444B-C493-42F2-847E-BC5D4ADA5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Albert_Namatjira_refuelling_for_a_trip_to_Alice_Springs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Namatjira_Landscape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981000"/>
            <a:ext cx="7777080" cy="676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Albert Namatjira</a:t>
            </a:r>
            <a:endParaRPr b="1" lang="en-US" sz="4400" spc="1" strike="noStrike">
              <a:ln w="936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43280" y="1916280"/>
            <a:ext cx="3429000" cy="42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284720" y="189000"/>
            <a:ext cx="5256000" cy="59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rn Elea Namatji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rn on the 28 of July 19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rn in Hermannsburg near Alice Spr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 of the Arrernte Tri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116000" y="765000"/>
            <a:ext cx="2408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51280" y="260280"/>
            <a:ext cx="558000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e of Australia’s most acclaimed visual art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e of Australia’s great art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haps the best known Aboriginal pai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st known for his water colour desert outback landscape painting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360036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211640" y="333360"/>
            <a:ext cx="540072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 the age of 16 he returned to the bush as init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le there he was exposed to traditional culture as part of the Arrente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 soon became an elder with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3743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771640" y="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59280" y="260280"/>
            <a:ext cx="583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67280" y="0"/>
            <a:ext cx="482580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Namatjiras wealth grew so did his extended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Aboriginal culture everyone shares everything they have with their tri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ue to this at one time he was single handedly providing for over 600 peo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5621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771640" y="0"/>
            <a:ext cx="72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7640" y="476280"/>
            <a:ext cx="48974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bert and his wife were granted citizenship in 195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entitled them to vote, own land, build a house and buy alcoh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3789360"/>
            <a:ext cx="856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Namatjira on his way to Alice Springs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04640"/>
            <a:ext cx="33829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51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2509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53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260280"/>
            <a:ext cx="878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600" spc="-1" strike="noStrike">
                <a:solidFill>
                  <a:srgbClr val="000000"/>
                </a:solidFill>
                <a:latin typeface="Arial"/>
              </a:rPr>
              <a:t>At the time of his death Namatjira had painted a total of around two thousand paintings and had two short biographical films made about hi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600" spc="-1" strike="noStrike">
                <a:solidFill>
                  <a:srgbClr val="000000"/>
                </a:solidFill>
                <a:latin typeface="Arial"/>
              </a:rPr>
              <a:t>Namatjira's work is on public display in some of Australia's major art galler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3716280"/>
            <a:ext cx="5688000" cy="2954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451640" y="5877000"/>
            <a:ext cx="15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Lillian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5T03:15:59Z</dcterms:created>
  <dc:creator>Reservoir District Secondary College</dc:creator>
  <dc:description/>
  <dc:language>en-US</dc:language>
  <cp:lastModifiedBy>Rick James Biatch</cp:lastModifiedBy>
  <dcterms:modified xsi:type="dcterms:W3CDTF">2008-08-17T10:50:25Z</dcterms:modified>
  <cp:revision>3</cp:revision>
  <dc:subject/>
  <dc:title>Slide 1</dc:title>
</cp:coreProperties>
</file>